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DE16-9C23-470D-AA72-0686F34534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3B71-230D-4AA5-A29E-B32248085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4F0B-2BC0-45D2-97DC-B906A248664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C5AF-84C4-4484-A47D-72C8BC094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A223-1764-458C-BA74-2E1B7FA438F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2DBD-AD5A-4548-BFFF-8C71E180F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E076-9662-4B61-81FE-9DF9B53BF89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732B-EE92-42C2-A243-CD3514522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6A4A-2032-46B4-98AA-5331AFD0DEB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C3EA-4AF5-4138-AF70-F4CE78CC4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4071-ADF6-4D27-8B89-89A963A2D1E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1619-F39D-40A7-B7F8-A31B77A2F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ADDD-5E4D-4A91-BC95-164539A30FC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90A2-F15B-4007-A23B-2D9AECDBC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881D-67A5-4C1B-8D74-EE1852C06C4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AC08-360E-439B-8402-89381D60A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4B298-115F-4FEE-8287-5B2CB83280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E8A66-9178-4247-BB55-A694749F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945C0-CF83-4CA9-AD0A-CAEA14AB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83474-9AC2-4D3E-92A9-A08BDEA65D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D9738-4CA5-4FF7-9B65-E41AFBFF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52784-69A8-4D9B-9109-7883977D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4047E-BF7A-4409-AD02-20BAA717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A8F70-11E8-4AB5-945E-43320FA7E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1DBB1-9D8C-4112-B406-DC4E52386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0A7DA-A96C-4A8A-BD1A-C2402711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5BFC1-7107-45F6-B488-00603D15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A5C84-ED1C-444D-A8BE-5F289835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266B-726B-43A8-8E48-A27401D4706F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A040-8FE9-40BB-B860-90FE65AA31B1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9</a:t>
            </a:r>
            <a:br>
              <a:rPr sz="4000"/>
            </a:b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Verdana"/>
              </a:rPr>
              <a:t>Improving Industry Participation in IEEE R8 Sponsored Conferences</a:t>
            </a:r>
            <a:r>
              <a:rPr b="1" lang="en-GB" sz="3600" spc="-1" strike="noStrike">
                <a:solidFill>
                  <a:srgbClr val="005582"/>
                </a:solidFill>
                <a:latin typeface="Verdana"/>
              </a:rPr>
              <a:t> </a:t>
            </a:r>
            <a:br>
              <a:rPr sz="4800"/>
            </a:br>
            <a:endParaRPr b="1" lang="en-US" sz="36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Group members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09480" y="1371600"/>
          <a:ext cx="8534520" cy="478476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je Gjengedal           Norway ( Moderat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ao Costa-Freire        Portug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rhan Ozkan, 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rt Richter,                 Aust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acob Al-Mulla            Qatar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vid Law                   UK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esa Bastaki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UA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hmad Al Naamany    O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ik Stilling                  Denma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őklan Gelebi,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mu Mushcab          Saudi-Arab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5582"/>
                </a:solidFill>
                <a:latin typeface="Verdana"/>
              </a:rPr>
              <a:t>Background: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articipation (outside R&amp;D) in R8 sponsored conferences is very wea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erceives that IEEE conferences are more suitable for academic and research professionals rather than addressing industrial iss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ow to improve industry participation in R8 sponsored Conferences, resulting in changing industry perception about our conferences</a:t>
            </a: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9FF6-24C1-4895-88B1-EFFD73D4B986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B182-E995-49A5-807E-2E9C2DE695D8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Some possible reasons for the current lack of interest from Industry Sector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es not give me th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pics, papers are not relev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o theoretical and to little on applications, experiences etc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 my preferred meeting place- others are more attractive and gives me mor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1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me of the conference should be attractive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industry members in Org. 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ite industrial sessions/trac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special topics of interest for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.g. on standards, applications, experiences, best practices++++++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ever possible industrial exhibitions are recomm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2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 the industry participants to submit only abstract reviewed and PP 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fP should clearly state requirements for industrial presen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roach and network with industry as early as possible – build their inter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hasize on advertisement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582"/>
                </a:solidFill>
                <a:latin typeface="Verdana"/>
              </a:rPr>
              <a:t>Final Recommendation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se recommendations  should be adopted by Conference Coordination SC to improve industrial particip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3:34Z</dcterms:modified>
  <cp:revision>18</cp:revision>
  <dc:subject/>
  <dc:title>Slide 1</dc:title>
</cp:coreProperties>
</file>